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ct" ContentType="image/x-pict"/>
  <Override PartName="/ppt/media/image17.pct" ContentType="image/x-pict"/>
  <Override PartName="/ppt/media/image6.png" ContentType="image/png"/>
  <Override PartName="/ppt/media/image11.png" ContentType="image/png"/>
  <Override PartName="/ppt/media/image20.pct" ContentType="image/x-pict"/>
  <Override PartName="/ppt/media/image18.pct" ContentType="image/x-pict"/>
  <Override PartName="/ppt/media/image7.png" ContentType="image/png"/>
  <Override PartName="/ppt/media/image12.png" ContentType="image/png"/>
  <Override PartName="/ppt/media/image21.pct" ContentType="image/x-pict"/>
  <Override PartName="/ppt/media/image19.pct" ContentType="image/x-pict"/>
  <Override PartName="/ppt/media/image8.png" ContentType="image/png"/>
  <Override PartName="/ppt/media/image13.png" ContentType="image/png"/>
  <Override PartName="/ppt/media/image22.pct" ContentType="image/x-pict"/>
  <Override PartName="/ppt/media/image9.png" ContentType="image/png"/>
  <Override PartName="/ppt/media/image4.png" ContentType="image/png"/>
  <Override PartName="/ppt/media/image28.pct" ContentType="image/x-pict"/>
  <Override PartName="/ppt/media/image30.pct" ContentType="image/x-pict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.pct" ContentType="image/x-pict"/>
  <Override PartName="/ppt/media/image25.pct" ContentType="image/x-pict"/>
  <Override PartName="/ppt/media/image14.png" ContentType="image/png"/>
  <Override PartName="/ppt/media/image15.png" ContentType="image/png"/>
  <Override PartName="/ppt/media/image16.png" ContentType="image/png"/>
  <Override PartName="/ppt/media/image23.pct" ContentType="image/x-pict"/>
  <Override PartName="/ppt/media/image24.pct" ContentType="image/x-pict"/>
  <Override PartName="/ppt/media/image26.pct" ContentType="image/x-pict"/>
  <Override PartName="/ppt/media/image2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4E9D4-2EA5-4A2D-AD12-A7CB39FD79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863C2-C49E-4106-8981-1A33F6CF98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1648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637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63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image" Target="../media/image23.pct"/><Relationship Id="rId5" Type="http://schemas.openxmlformats.org/officeDocument/2006/relationships/image" Target="../media/image24.pct"/><Relationship Id="rId6" Type="http://schemas.openxmlformats.org/officeDocument/2006/relationships/image" Target="../media/image25.pct"/><Relationship Id="rId7" Type="http://schemas.openxmlformats.org/officeDocument/2006/relationships/image" Target="../media/image26.pct"/><Relationship Id="rId8" Type="http://schemas.openxmlformats.org/officeDocument/2006/relationships/image" Target="../media/image27.pct"/><Relationship Id="rId9" Type="http://schemas.openxmlformats.org/officeDocument/2006/relationships/image" Target="../media/image28.pct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ct"/><Relationship Id="rId16" Type="http://schemas.openxmlformats.org/officeDocument/2006/relationships/image" Target="../media/image18.pct"/><Relationship Id="rId17" Type="http://schemas.openxmlformats.org/officeDocument/2006/relationships/slideLayout" Target="../slideLayouts/slideLayout2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4382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OLPC 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 D. Fa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VP Internationa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@laptop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5486400" cy="16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 Project Rollout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XOs is the easy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ing them is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can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wnership, management and commitment is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ollout Key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, Accessory,  &amp; Distribution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Different Solution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wo deployments are a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e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trateg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638680" cy="2475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609480" cy="227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7400" y="1922400"/>
            <a:ext cx="533520" cy="3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048120" y="1625760"/>
            <a:ext cx="609480" cy="203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962520" y="1219320"/>
            <a:ext cx="609480" cy="372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72880" y="1752480"/>
            <a:ext cx="870120" cy="241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752480" y="1371600"/>
            <a:ext cx="381240" cy="3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32767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3124080" y="1295280"/>
            <a:ext cx="609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rugua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CEIBAL, 1:1 during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saturating competitive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,000 XO’s delivered, more to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government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13716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Nigeri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0 XO’s donated by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anctioned school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out, school implementation run by a second private sector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587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Leban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Refugee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GO orchas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/Rollout: UNR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: Norwegian People’s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3273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Models that Work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eering and Leader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and Global Impact: Make it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gets more effective,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OL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do more of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What is OLPC?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is a non-profit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l to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ed Open Sourc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ke-up an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4757760" cy="14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he laptop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8958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s of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600,000 ship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0,000 by year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29000" y="1866960"/>
            <a:ext cx="1523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rdering Logist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happens a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/80 advance payment/letter of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+/- days from order to sh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1G1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7640" y="99036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an XO and Give an XO to a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7, 85,000 X0s in 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ger Presence,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R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1360" y="357120"/>
            <a:ext cx="5119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ey Partners from Private &amp; Public Se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6600" y="1062000"/>
            <a:ext cx="1120680" cy="425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03880" y="1352520"/>
            <a:ext cx="745920" cy="339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89200" y="1020600"/>
            <a:ext cx="777960" cy="32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09880" y="1187280"/>
            <a:ext cx="496800" cy="28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324240" y="1892160"/>
            <a:ext cx="1427040" cy="211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95200" y="2222640"/>
            <a:ext cx="1079640" cy="203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370240" y="1808280"/>
            <a:ext cx="585720" cy="642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3822840" y="89676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1623960" y="1725480"/>
            <a:ext cx="382680" cy="38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3733920" y="2590920"/>
            <a:ext cx="699840" cy="201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420840" y="280368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3033720" y="2513160"/>
            <a:ext cx="384120" cy="777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4610160" y="2762280"/>
            <a:ext cx="358560" cy="52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4"/>
          <a:stretch/>
        </p:blipFill>
        <p:spPr>
          <a:xfrm>
            <a:off x="533520" y="1676520"/>
            <a:ext cx="711000" cy="38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2736720" y="205092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1371600" y="2971800"/>
            <a:ext cx="129528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umber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203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etwork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on collective works,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ng OLPC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Robert Fadel</cp:lastModifiedBy>
  <dcterms:modified xsi:type="dcterms:W3CDTF">2008-11-17T16:15:33Z</dcterms:modified>
  <cp:revision>106</cp:revision>
  <dc:subject/>
  <dc:title>One Laptop per Child</dc:title>
</cp:coreProperties>
</file>